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0FF-7191-453B-A7F6-886E2C349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30C-042C-4852-B31C-CC7A90FCD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AA2-407B-4025-866B-D563E9D22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517-C92B-40F2-83DB-3AB38F45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07A-284C-4C4E-80EE-F7C5A6D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883-4F6E-4C6D-B435-EB30AD12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27F-840F-4856-BF58-FB18BE83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78BA-61FC-4D23-9A36-2EF296DB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C3DA-62D3-48F7-9CA9-E24E979B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DEBD-9559-4F31-80C3-BADC03FE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95E-C827-4C8E-8664-7D601EE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5913-1C64-46DE-A3AF-12F6AD1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AFE5-29AE-4D3E-B958-F99C645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C607-89D4-4CF0-BBEC-D02B5B6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446-DE2B-4011-98E0-7FDBF930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29F-2868-422E-AE1A-5775475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068-A295-4D7E-8DA7-48CB606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D28B-AC6B-4740-A233-1413D76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504-1DEF-49EE-80D2-E74E0A90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303B-F8FC-4825-8CC6-A603582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AB1-3302-40AF-B202-B439623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05C-1DB1-485D-A999-C401228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23B-7964-4420-8E1D-A14B2E15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2CC-9F2C-4843-92B5-0D60116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B93-3448-4EBE-9682-8318627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D4B-F373-4693-B85C-2D91E5C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14E-B947-4483-8616-79AD67A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D:\Hot Chilli\Webs\powerpoint\Bus gen3\educatcarh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ED8F-E8E1-4A6A-9022-CCAFCD707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D:\Hot Chilli\Webs\powerpoint\Bus gen3\educatcarh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105-7CEB-4472-8250-32423CF1AF48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7cc17"/>
                </a:solidFill>
                <a:latin typeface="Arial"/>
              </a:rPr>
              <a:t>NOUNS</a:t>
            </a:r>
            <a:endParaRPr b="1" lang="en-US" sz="15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 Amanda Hark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11"/>
          <p:cNvSpPr/>
          <p:nvPr/>
        </p:nvSpPr>
        <p:spPr>
          <a:xfrm>
            <a:off x="4876920" y="1295280"/>
            <a:ext cx="2438280" cy="9907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133720" y="304920"/>
            <a:ext cx="335268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04920" y="2286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ahoma"/>
              </a:rPr>
              <a:t>Two children lived across the stree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362320" y="2895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809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MSj03275460000[1].wav" descr=""/>
          <p:cNvPicPr/>
          <p:nvPr/>
        </p:nvPicPr>
        <p:blipFill>
          <a:blip r:embed="rId1"/>
          <a:stretch/>
        </p:blipFill>
        <p:spPr>
          <a:xfrm>
            <a:off x="6858000" y="3695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0" y="4648320"/>
            <a:ext cx="61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tree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lac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653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14"/>
          <p:cNvSpPr/>
          <p:nvPr/>
        </p:nvSpPr>
        <p:spPr>
          <a:xfrm>
            <a:off x="3505320" y="1600200"/>
            <a:ext cx="2361960" cy="7621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3962520" y="762120"/>
            <a:ext cx="2133360" cy="8380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477120" y="0"/>
            <a:ext cx="1371600" cy="8380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2666880" y="0"/>
            <a:ext cx="121932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571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Tahoma"/>
              </a:rPr>
              <a:t>The girl and the boy brought bread to the birds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743200" y="26668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3581280"/>
            <a:ext cx="883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Girl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oy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name a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pers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MSj00748740000[1].wav" descr=""/>
          <p:cNvPicPr/>
          <p:nvPr/>
        </p:nvPicPr>
        <p:blipFill>
          <a:blip r:embed="rId1"/>
          <a:stretch/>
        </p:blipFill>
        <p:spPr>
          <a:xfrm>
            <a:off x="8344080" y="5295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5"/>
          <p:cNvSpPr/>
          <p:nvPr/>
        </p:nvSpPr>
        <p:spPr>
          <a:xfrm>
            <a:off x="0" y="434340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read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thing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3400" y="5029200"/>
            <a:ext cx="487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Birds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5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7cc17"/>
                </a:solidFill>
                <a:latin typeface="Arial"/>
              </a:rPr>
              <a:t>GREAT JOB!!!</a:t>
            </a:r>
            <a:endParaRPr b="1" lang="en-US" sz="8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You’re flying high!  Way to go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7" descr="dumbo1"/>
          <p:cNvPicPr/>
          <p:nvPr/>
        </p:nvPicPr>
        <p:blipFill>
          <a:blip r:embed="rId1"/>
          <a:stretch/>
        </p:blipFill>
        <p:spPr>
          <a:xfrm>
            <a:off x="5537160" y="2133720"/>
            <a:ext cx="360684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f7cc17"/>
                </a:solidFill>
                <a:uFillTx/>
                <a:latin typeface="Arial"/>
              </a:rPr>
              <a:t>NOUNS:</a:t>
            </a:r>
            <a:endParaRPr b="1" lang="en-US" sz="65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A noun names a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person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place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animal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7800" spc="-1" strike="noStrike" u="sng">
                <a:solidFill>
                  <a:srgbClr val="ffffff"/>
                </a:solidFill>
                <a:uFillTx/>
                <a:latin typeface="Tahoma"/>
              </a:rPr>
              <a:t>thing</a:t>
            </a:r>
            <a:r>
              <a:rPr b="0" lang="en-US" sz="7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Person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boy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3" descr="C:\Documents and Settings\aharkins\Local Settings\Temporary Internet Files\Content.IE5\YJAJMXUZ\MCj04282910000[1].wmf"/>
          <p:cNvPicPr/>
          <p:nvPr/>
        </p:nvPicPr>
        <p:blipFill>
          <a:blip r:embed="rId1"/>
          <a:stretch/>
        </p:blipFill>
        <p:spPr>
          <a:xfrm>
            <a:off x="4191120" y="1905120"/>
            <a:ext cx="3985920" cy="4806720"/>
          </a:xfrm>
          <a:prstGeom prst="rect">
            <a:avLst/>
          </a:prstGeom>
          <a:ln w="0">
            <a:noFill/>
          </a:ln>
        </p:spPr>
      </p:pic>
      <p:pic>
        <p:nvPicPr>
          <p:cNvPr id="98" name="MSSN00732A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04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Place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C:\Documents and Settings\aharkins\My Documents\My Pictures\Microsoft Clip Organizer\so01226_.wmf"/>
          <p:cNvPicPr/>
          <p:nvPr/>
        </p:nvPicPr>
        <p:blipFill>
          <a:blip r:embed="rId1"/>
          <a:stretch/>
        </p:blipFill>
        <p:spPr>
          <a:xfrm>
            <a:off x="2895480" y="1371600"/>
            <a:ext cx="6562800" cy="5114880"/>
          </a:xfrm>
          <a:prstGeom prst="rect">
            <a:avLst/>
          </a:prstGeom>
          <a:ln w="0">
            <a:noFill/>
          </a:ln>
        </p:spPr>
      </p:pic>
      <p:pic>
        <p:nvPicPr>
          <p:cNvPr id="102" name="MSj00747430000[1].wav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020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Animal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dog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harkins\Local Settings\Temporary Internet Files\Content.IE5\6LOJUT25\MPj04310180000[1].jpg"/>
          <p:cNvPicPr/>
          <p:nvPr/>
        </p:nvPicPr>
        <p:blipFill>
          <a:blip r:embed="rId1"/>
          <a:stretch/>
        </p:blipFill>
        <p:spPr>
          <a:xfrm>
            <a:off x="2971800" y="182880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MSj03884500000[1].wav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9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7cc17"/>
                </a:solidFill>
                <a:uFillTx/>
                <a:latin typeface="Arial"/>
              </a:rPr>
              <a:t>Thing</a:t>
            </a:r>
            <a:endParaRPr b="1" lang="en-US" sz="9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irplan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C:\Documents and Settings\aharkins\Local Settings\Temporary Internet Files\Content.IE5\O1430RC3\MCj04242060000[1].wmf"/>
          <p:cNvPicPr/>
          <p:nvPr/>
        </p:nvPicPr>
        <p:blipFill>
          <a:blip r:embed="rId1"/>
          <a:stretch/>
        </p:blipFill>
        <p:spPr>
          <a:xfrm>
            <a:off x="1981080" y="2987640"/>
            <a:ext cx="586764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43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Tahoma"/>
              </a:rPr>
              <a:t>Now, let’s practice identifying nouns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4419720" y="1143000"/>
            <a:ext cx="2666880" cy="11430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447920" y="380880"/>
            <a:ext cx="2133360" cy="99072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77320" y="4800600"/>
            <a:ext cx="838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Rectangle 6"/>
          <p:cNvGrpSpPr/>
          <p:nvPr/>
        </p:nvGrpSpPr>
        <p:grpSpPr>
          <a:xfrm>
            <a:off x="-115920" y="189000"/>
            <a:ext cx="8534520" cy="2249280"/>
            <a:chOff x="-115920" y="189000"/>
            <a:chExt cx="8534520" cy="2249280"/>
          </a:xfrm>
        </p:grpSpPr>
        <p:pic>
          <p:nvPicPr>
            <p:cNvPr id="117" name="Rectangle 6" descr=""/>
            <p:cNvPicPr/>
            <p:nvPr/>
          </p:nvPicPr>
          <p:blipFill>
            <a:blip r:embed="rId1"/>
            <a:stretch/>
          </p:blipFill>
          <p:spPr>
            <a:xfrm>
              <a:off x="-115920" y="189000"/>
              <a:ext cx="85345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304920"/>
              <a:ext cx="8305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c000"/>
                  </a:solidFill>
                  <a:latin typeface="Tahoma"/>
                </a:rPr>
                <a:t>The park was covered in snow.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8"/>
          <p:cNvSpPr/>
          <p:nvPr/>
        </p:nvSpPr>
        <p:spPr>
          <a:xfrm>
            <a:off x="228600" y="213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362320" y="2895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292120" y="3809880"/>
            <a:ext cx="466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rk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la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438280" y="464832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now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13"/>
          <p:cNvSpPr/>
          <p:nvPr/>
        </p:nvSpPr>
        <p:spPr>
          <a:xfrm>
            <a:off x="3429000" y="1143000"/>
            <a:ext cx="2057400" cy="10666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6019920" y="304920"/>
            <a:ext cx="2438280" cy="106668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1981080" y="380880"/>
            <a:ext cx="2438640" cy="9144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54100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*Names for people, places, animals, and things are called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uns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80880" y="304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ahoma"/>
              </a:rPr>
              <a:t>The ducks and geese had no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es this sentence name a person, place or th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124080" y="32004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28600" y="388620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uck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ees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nimal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MacOS" descr=""/>
          <p:cNvPicPr/>
          <p:nvPr/>
        </p:nvPicPr>
        <p:blipFill>
          <a:blip r:embed="rId1"/>
          <a:stretch/>
        </p:blipFill>
        <p:spPr>
          <a:xfrm>
            <a:off x="8344080" y="5295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4"/>
          <p:cNvSpPr/>
          <p:nvPr/>
        </p:nvSpPr>
        <p:spPr>
          <a:xfrm>
            <a:off x="228600" y="4648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oo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a th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572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7:21:41Z</dcterms:created>
  <dc:creator>aharkins</dc:creator>
  <dc:description/>
  <cp:keywords/>
  <dc:language>en-US</dc:language>
  <cp:lastModifiedBy>Laura McDow</cp:lastModifiedBy>
  <dcterms:modified xsi:type="dcterms:W3CDTF">2010-09-17T17:09:59Z</dcterms:modified>
  <cp:revision>33</cp:revision>
  <dc:subject/>
  <dc:title>NOU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